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89F9-CA53-4F8D-9D02-58F3D0B73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31B0-9F4F-42A2-894A-513F39AE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A7AA-B14F-4C13-8984-67FE8046D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8A82-AE9A-46C6-A051-70D898E68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6AC4-2F7B-4E18-8AC0-02D2BAB3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8821-C846-4B08-B179-286D3A38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6216-ED8A-4391-80DD-BBB4F235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C43C-155A-47DF-8FE0-178465D6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CA37-532E-4B71-A790-4662C939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3708-7B34-4B32-BA0A-8207B908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99F2-32BF-4CF6-8FEE-552C481D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E508-3CBD-43CB-9781-169F7580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5598-2936-4818-8244-36619A904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98400" y="1096920"/>
            <a:ext cx="4740480" cy="6858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4716360" y="3479760"/>
            <a:ext cx="4221000" cy="669960"/>
            <a:chOff x="4716360" y="3479760"/>
            <a:chExt cx="4221000" cy="66996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4716360" y="347976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"/>
            <p:cNvGrpSpPr/>
            <p:nvPr/>
          </p:nvGrpSpPr>
          <p:grpSpPr>
            <a:xfrm>
              <a:off x="5692680" y="3659040"/>
              <a:ext cx="3240000" cy="298440"/>
              <a:chOff x="5692680" y="3659040"/>
              <a:chExt cx="3240000" cy="298440"/>
            </a:xfrm>
          </p:grpSpPr>
          <p:sp>
            <p:nvSpPr>
              <p:cNvPr id="45" name=""/>
              <p:cNvSpPr/>
              <p:nvPr/>
            </p:nvSpPr>
            <p:spPr>
              <a:xfrm>
                <a:off x="5692680" y="365904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350120" y="365904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" name=""/>
          <p:cNvSpPr/>
          <p:nvPr/>
        </p:nvSpPr>
        <p:spPr>
          <a:xfrm>
            <a:off x="1892160" y="1330200"/>
            <a:ext cx="165600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1330200"/>
            <a:ext cx="187164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08000" y="3462480"/>
            <a:ext cx="4464000" cy="2072880"/>
            <a:chOff x="108000" y="3462480"/>
            <a:chExt cx="4464000" cy="207288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900000" y="4369680"/>
              <a:ext cx="164628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55640" y="4303800"/>
              <a:ext cx="2016000" cy="123156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108000" y="3462480"/>
              <a:ext cx="4419360" cy="57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24452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91636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116000" y="3850920"/>
              <a:ext cx="287280" cy="58284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042920" y="166680"/>
            <a:ext cx="412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:\E_current\reminderfox_gW\www\info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134136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62499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000" y="198900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5326200" y="4457880"/>
            <a:ext cx="1638000" cy="1049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81480" y="4325760"/>
            <a:ext cx="2016360" cy="123192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62373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16040" y="1952640"/>
            <a:ext cx="4221000" cy="669960"/>
            <a:chOff x="716040" y="1952640"/>
            <a:chExt cx="4221000" cy="669960"/>
          </a:xfrm>
        </p:grpSpPr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716040" y="195264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1692360" y="2131920"/>
              <a:ext cx="3240000" cy="298440"/>
              <a:chOff x="1692360" y="2131920"/>
              <a:chExt cx="3240000" cy="298440"/>
            </a:xfrm>
          </p:grpSpPr>
          <p:sp>
            <p:nvSpPr>
              <p:cNvPr id="66" name=""/>
              <p:cNvSpPr/>
              <p:nvPr/>
            </p:nvSpPr>
            <p:spPr>
              <a:xfrm>
                <a:off x="1692360" y="213192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49800" y="213192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 flipH="1">
            <a:off x="5508360" y="3908520"/>
            <a:ext cx="393480" cy="5094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151080" y="1052640"/>
            <a:ext cx="3095640" cy="1968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348000" y="4689360"/>
            <a:ext cx="2670120" cy="190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84360" y="5091120"/>
            <a:ext cx="1522440" cy="1650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95280" y="1601640"/>
            <a:ext cx="2090880" cy="1683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655560" y="3649680"/>
            <a:ext cx="3819600" cy="60336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1557360" y="3821040"/>
            <a:ext cx="2914200" cy="298440"/>
            <a:chOff x="1557360" y="3821040"/>
            <a:chExt cx="2914200" cy="298440"/>
          </a:xfrm>
        </p:grpSpPr>
        <p:sp>
          <p:nvSpPr>
            <p:cNvPr id="75" name=""/>
            <p:cNvSpPr/>
            <p:nvPr/>
          </p:nvSpPr>
          <p:spPr>
            <a:xfrm>
              <a:off x="1557360" y="3821040"/>
              <a:ext cx="147672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48120" y="3821040"/>
              <a:ext cx="14234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 flipH="1">
            <a:off x="4163760" y="3994200"/>
            <a:ext cx="128520" cy="582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92480" y="4446720"/>
            <a:ext cx="3173400" cy="220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19440" y="378468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78520" y="587232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81520" y="477036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81880" y="619596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042920" y="4057560"/>
            <a:ext cx="2138400" cy="1038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6480" y="501336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388800" y="115920"/>
            <a:ext cx="3976920" cy="574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413000" y="304920"/>
            <a:ext cx="148896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052520" y="504720"/>
            <a:ext cx="168120" cy="763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1200" y="957240"/>
            <a:ext cx="3173400" cy="220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48160" y="24444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03640" y="234936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08440" y="133020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08800" y="275580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304920"/>
            <a:ext cx="149040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35160" y="496800"/>
            <a:ext cx="1887480" cy="1225800"/>
          </a:xfrm>
          <a:custGeom>
            <a:avLst/>
            <a:gdLst/>
            <a:ahLst/>
            <a:rect l="l" t="t" r="r" b="b"/>
            <a:pathLst>
              <a:path w="1189" h="772">
                <a:moveTo>
                  <a:pt x="0" y="772"/>
                </a:moveTo>
                <a:lnTo>
                  <a:pt x="1189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84400" y="182412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79280" y="765000"/>
            <a:ext cx="2917800" cy="2592720"/>
            <a:chOff x="179280" y="765000"/>
            <a:chExt cx="2917800" cy="25927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179280" y="765000"/>
              <a:ext cx="2895840" cy="25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541520" y="2774880"/>
              <a:ext cx="1555560" cy="582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92760" y="26028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24000" y="3789360"/>
            <a:ext cx="2779560" cy="2527200"/>
            <a:chOff x="324000" y="3789360"/>
            <a:chExt cx="2779560" cy="252720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324000" y="3789360"/>
              <a:ext cx="25477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547640" y="5734080"/>
              <a:ext cx="1555920" cy="582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465840" y="638172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774960" y="631800"/>
            <a:ext cx="5261040" cy="2509920"/>
            <a:chOff x="3774960" y="631800"/>
            <a:chExt cx="5261040" cy="2509920"/>
          </a:xfrm>
        </p:grpSpPr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3846600" y="631800"/>
              <a:ext cx="5189400" cy="25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774960" y="1538640"/>
              <a:ext cx="2880000" cy="518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642200" y="11592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140360" y="4149720"/>
            <a:ext cx="4741200" cy="2544840"/>
            <a:chOff x="4140360" y="4149720"/>
            <a:chExt cx="4741200" cy="2544840"/>
          </a:xfrm>
        </p:grpSpPr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4211280" y="4149720"/>
              <a:ext cx="4670280" cy="25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140360" y="4992480"/>
              <a:ext cx="2879280" cy="518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074920" y="364500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5400" y="112536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348000" y="44280"/>
            <a:ext cx="5688000" cy="3600360"/>
            <a:chOff x="3348000" y="44280"/>
            <a:chExt cx="5688000" cy="360036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419280" y="50760"/>
              <a:ext cx="5540400" cy="35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631000" y="44280"/>
              <a:ext cx="333360" cy="19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1701720"/>
              <a:ext cx="4464000" cy="1726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48000" y="1773000"/>
              <a:ext cx="1295280" cy="360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609600" y="479736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50920" y="3860640"/>
            <a:ext cx="5925600" cy="2865600"/>
            <a:chOff x="250920" y="3860640"/>
            <a:chExt cx="5925600" cy="2865600"/>
          </a:xfrm>
        </p:grpSpPr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250920" y="3860640"/>
              <a:ext cx="3925800" cy="28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4498920" y="4797360"/>
              <a:ext cx="167760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91564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4728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83040" y="4624560"/>
              <a:ext cx="4075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41840" y="5037120"/>
              <a:ext cx="115380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58920" y="5703840"/>
              <a:ext cx="115344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4240" y="105264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16560" y="44280"/>
            <a:ext cx="4448160" cy="4029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356000" y="1728720"/>
            <a:ext cx="115272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1628640"/>
            <a:ext cx="3600360" cy="180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50920" y="3951360"/>
            <a:ext cx="5796000" cy="2862360"/>
            <a:chOff x="250920" y="3951360"/>
            <a:chExt cx="5796000" cy="2862360"/>
          </a:xfrm>
        </p:grpSpPr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4138560" y="4667400"/>
              <a:ext cx="190836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250920" y="3951360"/>
              <a:ext cx="3752640" cy="28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62728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7636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14920" y="4508640"/>
              <a:ext cx="3859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3800" y="5003640"/>
              <a:ext cx="115236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09600" y="587700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0:57:52Z</dcterms:created>
  <dc:creator>\\_gW_</dc:creator>
  <dc:description/>
  <dc:language>en-US</dc:language>
  <cp:lastModifiedBy>\\_gW_</cp:lastModifiedBy>
  <dcterms:modified xsi:type="dcterms:W3CDTF">2010-12-01T23:24:20Z</dcterms:modified>
  <cp:revision>7</cp:revision>
  <dc:subject/>
  <dc:title>Folie 1</dc:title>
</cp:coreProperties>
</file>